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95F-B0B7-4845-BE6D-8AB057EF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6A08-F48B-49C7-899C-E7A9750C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B77CB-E693-426C-803F-195DD3D2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A0EE7-478E-4775-BC64-BD54305B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0BB92-5FBB-4A7E-B0D7-92EE33E7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DC743-9511-4421-9BFF-B816FBD2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0E151-A6CE-4BEA-A7A5-70AD34D6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080FF-DE14-4907-9F93-1146548B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E2B89-8DC3-422F-98C7-507106D2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F8ECC-F3CE-4BFA-960E-493DD610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02F67-9F0A-4FEF-A62F-BEB20E35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22781-C321-4C5F-B105-EE1A9634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4A5-0183-4487-8F50-F782F90B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BB9F7-F93F-428D-9FC2-8004A216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BAFAB-7057-4541-AD20-F1FAAF9B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E4534-6FAB-4483-AF7B-A356B14B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4CBB5-C7F5-4A9A-9047-AD6DC0F5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6346D-695F-4A41-8AAD-1E4723CC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6889F-9F64-4451-ACFF-9A51E140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0DD28-ABF4-433B-9EAB-F9774740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BECCA-3E7A-4879-A759-97A00E20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BFBB3-7FAA-47F4-8AFE-BE635512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DE1B8-B860-41B1-9E05-4E6BA5AF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6CC-CA78-46AB-B098-652970D2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85281-2054-4667-B089-8EDE7053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E8BE1-4BAC-4913-8625-3AF6C8CB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041CF-9034-459E-A56C-4B60452D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CCF1D-A1A7-4135-884F-0D4B944A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65B45-2AD7-47B9-9B62-0A874FE5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95BAD-A1A1-4D10-8EAB-42083EF0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1C6F6-54D2-45A1-BDE9-0B648154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77482-876A-4CF1-B630-0B218739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A7E92-CAF1-4F99-83E2-5D6C3290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DBBAF-52F9-4A54-A78D-56CCF48D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F6CC-B264-4A74-B52A-DCCEC600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A9585-8A18-4114-AB5D-A442A050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4DAD0-3D57-46C3-A9CE-087ED053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DDBD1-3C27-4B81-895C-3F5F341A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40F15-DC70-4D77-B393-D03D954B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7D4F9-727D-4E12-A1C1-338B1CD5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B731C-7E1A-4977-950E-B98B9E5D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915ED-2C9D-4D14-9D7A-DE6A69A1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0B09F-EA5F-48DD-9374-A24D4918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C57E4-798F-416C-ADC9-D70F089C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34054-F205-4A8D-88E3-689AFB6F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3DAE-A6E4-4A8D-938D-CB291BAF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C6152-22BB-4540-901E-9C4C3D4A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4FAA6-22A2-4095-8D01-09C770EA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51305-5F44-4E1F-BD4E-A9A47892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F400E-77C1-4037-8802-5E61A1B2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7949F-A563-401C-A9EF-6728AE20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ACB5F-68A0-4A47-AA69-C22FD4DC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BE57E-A4FA-41C5-AD6D-1D555854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B24B21-1E0F-4130-A6F8-7FB94B79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2A75DB-0253-46EB-99D8-E2FEDF62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AECB0-FFD1-4946-A306-D81E49E7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0F08-DB8D-4C56-987D-08966BD1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7B978-ED5C-4D33-9129-1BDF12D4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32CA2-EFB0-49C6-B242-A5B19078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DAE07-3531-42A1-AA88-A54AFC3E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1CF5C-A6C6-4B25-9256-E94DE9BA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95F44C-8BD0-4311-AE53-932A0B54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E27F5-80F8-4A75-910A-CD0D5696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365F3-A3A4-4FFC-BD69-889C6C20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050EE7-BC01-4215-9CCA-57E2DF42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17618A-7957-4BBB-8072-3876EEA1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7C41E7-204C-4B6D-99F4-401C0A86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0871-5D6E-4E6F-B3E6-7D7032F6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772F8-F75E-4B3F-BE69-C3977C98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FBFD1-517C-43AF-9667-E3E975F6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3FB73E-1760-4E82-BAAD-3F56B361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823C42-41F7-42E3-984A-9F1DD3AA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0C298-9465-444A-A9CF-60DFAB33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E7B05B-D6EA-42FE-900C-D3E559EC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BA2F3F-0D93-4D3B-AC62-E73389B7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B0C038-A75E-4CD0-AB52-7188063E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0BC09-61B9-4F72-945B-3A405D5F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EE07CB-B3FD-4DDC-BAFC-FC50E3B0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21CC-A4F0-4588-B250-667340C0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B73BAA-C283-4D50-9AC7-BF4D34F3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CE1BDE-1D47-4156-8CDF-6283C43C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EA8B91-596E-416A-87E4-9EDDE34A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438CB7-A55D-4390-A445-9C16AE52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B777C8-CDCE-448B-B650-4C207E5B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6E7959-D48B-48DA-9BEA-FB2A3FE6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F4499C-F4B2-4BD2-AF3D-FF2D55EE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76FBE5-EE4F-400E-BB22-7AE2E132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8E28F8-73A8-4410-957E-68E69D5D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B9C22A-ADCA-4CF6-829C-9EF4314E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EDE7-7874-4E3A-9BA3-FAA0D649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460935-376E-4A7C-AD3D-159972A5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DBF698-C574-4641-B2EC-5CA57D60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7712DF-6858-4F6B-87C5-86DA9E1F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43CF43-9741-44BC-911C-F0521C9C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44C59F-0AF9-4200-8F8F-0D7F225B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5E389A-4619-45CF-BCBB-CC8DB947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015130-4EF5-424E-8B71-9CD615B9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5CC2AE-1D9C-4FFF-B932-F3480D7A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4AADAA-470C-42C7-B82A-446B1D03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7F2717-671F-4641-9D87-366F46AD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984F-5F1E-4E64-BB7D-FCDA8A79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6AF7A6-656E-4533-B0A4-128D5326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B6A606-8A16-4807-908F-1E499741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4FF07F-6A4D-438B-BB01-3083CCEC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1C2-AF4E-428B-AFB0-C919E15B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4520-C388-4116-9DBE-34BB3D97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D240-FABA-4EC4-92D4-92550ADC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DDE9-A486-41D8-AF0D-6A3FAD5D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CE94-0DC0-419B-9D96-8C55E0E7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A5B9-CFE6-416B-BFB8-C8197B54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E27E0-A768-460F-B32F-E6AB08BF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D81B9-D62F-4DB2-BA73-4B848D7D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FD1F5-22BA-4754-942D-E511F819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9B9C3-7A4C-4D05-9CE2-93BDEE97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20E63-3A99-4017-9D78-EE58AC99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3FD1-F5AB-434C-B965-9A8E6199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9EB0C-513A-4960-B131-D788E3F7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F9539-B38F-438F-A9BD-E63FE007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FEECF-7105-41CA-BB5D-10F9E5ED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B2EBF-5F50-4069-AE1A-99FB7FA8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3884D-65B3-4479-8A48-A9148529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382CE-359F-4FF7-A98B-B1208372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FAC5A-CD46-464C-805B-202FC125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A7D59-DC30-41D1-ADF2-20F61B6F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6789D-5BF0-4D00-94C0-9E1AA640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1E563-337A-4FF0-B6C4-F86821D8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0DF-97D5-4E22-B0EB-BCEE019A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AC840-9511-4BC8-8F64-4ACC26E8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68F63-959E-4D4E-A473-0E9DC3A3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FA4E2-474C-4D93-BD0D-B15EFC78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0EB8C-33A1-4B4E-B326-149E0AFF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B5265-B946-4B29-8244-9CC36933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6BBBA-FAC9-4717-A866-6B47DFEB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CFF7E-47F9-4032-A7F4-D48D2537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E9945-94FE-44CB-BA2F-A4A3B9E4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18F62-4C76-434B-887B-0744ECBF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45133-6879-44AE-B512-8A687DB6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736-EC31-4741-9B1E-D2EA9457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87B05-9F88-4739-A5AF-5337C6DA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80435-B674-45DD-BFD0-5A65A61A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11BC5-1CE8-4472-8565-5DA73141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ABE55-DF9F-45A7-802E-35C1E5A4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B845A-A860-4564-B918-DA76C34E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8D09B-68B1-4115-B4B5-16C230D0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6A69B-8789-47DD-A92A-F3670034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0EF05-6E8D-4ADA-AC16-0112350A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51FDA-D009-410C-9331-50B7B071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24E48-AAA1-4F35-A081-2BAF6AED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B48F-0FC5-40F9-89DA-3B108F80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90FC5-50AC-4D0D-858D-459E1661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C3953-F7E9-4D7D-A155-1434DE67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5E15A-9387-446E-B7F5-333F505F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84CFC-05B7-4289-A955-B810F79C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1411B-B0B9-4927-8C8D-F7CC5C3E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2E225-4A14-420F-94B1-0C4E4E1E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889D8-2264-4FB5-86E6-0031C932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66291-D0AD-413C-9ECA-1D1640EB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4CA0E-4A1E-4A5C-A72A-850DBF95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0AB68-2AAB-4AE8-AE57-80CE4B58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B80-D162-4183-9AAC-45F403B3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56FE5-A08D-4E15-A01C-50E663E7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36218-A1C7-4F78-A711-DAB9F522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E787E-08BA-4636-A7DA-7F46DC3E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C985E-A818-400C-A378-006F84E2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E257F-E843-46FE-8D8D-D55FF68A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376DB-1D88-434E-AB5B-5DE7159F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FA34B-151F-42F2-BB3D-0DA6EFA3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7B69A-0126-4030-BC95-F3218F55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DDE60-F363-405E-B3F2-6BE30A6D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E7B7B-ADC8-4ECB-AE5E-477181AA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424-C0C8-4542-8EA3-0B274018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23D03-37D1-42A4-809A-9466DF9D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F52A6-4CED-424E-972A-D477E578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F837D-15FA-4A0C-A836-86BEC0F7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6E2C8-7BE6-431F-A7F4-F1D488E8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D40D9-22C0-4E66-8680-CE89411C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E6D8B-23A8-4CF6-B0EA-1015F880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A916E-02A0-48DB-96E7-CEB9AFBE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63B35-1539-4FE6-ABB6-A93E7331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D976A-6C1A-46B4-B0A7-85F82BC8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245A5-62E7-4BAB-9A38-A462E19B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7BD-862B-476F-9578-AF0666D1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247D5-9A98-4A76-9771-5879E7E1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9F76B-9455-4212-8119-30C9A1D5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A261A-0543-4677-A0B7-597F7E1F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29460-BD98-46C9-A101-9B42A7EB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F9450-DBB8-4691-80D7-BF5075BF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1E295-6FD1-4917-BA5C-160F994F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AA739-CFC0-4F58-9F3C-A3659A08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5DB92-595F-45D4-A53C-29FDDDBC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64C6E-F76F-413A-B2F8-32BB2A2B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B0D92-82E6-477E-893D-169D2EEF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AC27-AC12-49A5-BFBF-0D1F44F7C7EE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321F-8B46-4E8E-B0F1-AAF8639A7949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FAB5-D62B-4181-9B57-DC1BB06154CB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078F-0960-43F8-9B0D-90865E89AB27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5D11-8D7B-4002-9C0F-22655BB3C74B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ADC4-EB45-4AD3-8DF3-2E8FE53B650E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0F03-BB8C-4562-AAFD-528A56F16FDD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C241-2874-4983-8EC3-005DC5C7E87A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EF16-EE7C-4CCA-A0F4-AB71D584E07E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899C-C218-454B-AEC1-67543317CD1B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040E-E80C-4592-AC36-4EDE2D4E3D02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A48A-5C91-4494-B257-099E926160FA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BAC3-685E-41E9-B10A-C0BFEE69BA93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C511-EC49-427C-9164-E3B33EB575AC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6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1FE2-CE1E-4026-8534-5D23706DF214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7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8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02A4-5C67-4833-9957-488F79E3AF6D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3"/>
          <a:stretch/>
        </p:blipFill>
        <p:spPr>
          <a:xfrm>
            <a:off x="603360" y="1427040"/>
            <a:ext cx="7937280" cy="6546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3482-F4D8-484C-A1EB-00F8E618F72A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6508-582A-40A5-8087-7BE218818A23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09ED-8190-4275-8CA7-CE6A3AC29184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32FF-BEFC-4719-9704-1D509FA69D57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A289-B92E-4416-9AE5-D4EF02C1F327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E32F-8593-4FE3-85DB-B9EB582C9AE0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DDEA-5BC5-4C3B-8336-73D58E353860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FD40-2B91-4678-AF0D-32DBDC54872F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221E-7E76-4B79-B0B8-346F49479BA3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1303-7C1A-4D2A-B4D0-6ADA5AA44FCE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C986-B18A-4C2F-B634-7B407C4DA568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8362-3D00-4E62-8507-C1BA1A2CDC6B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8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9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0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1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2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3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ABF5-4F7F-4784-976D-BF713BCCB6FC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F06A-3A15-40B1-946A-52642EF732AE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1874-9092-4419-B253-2A761F8707DB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09A7-B099-478B-A638-A6AE446C96A7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Rectangle 1" descr=""/>
          <p:cNvPicPr/>
          <p:nvPr/>
        </p:nvPicPr>
        <p:blipFill>
          <a:blip r:embed="rId2"/>
          <a:stretch/>
        </p:blipFill>
        <p:spPr>
          <a:xfrm>
            <a:off x="652320" y="1530360"/>
            <a:ext cx="7839360" cy="1646280"/>
          </a:xfrm>
          <a:prstGeom prst="rect">
            <a:avLst/>
          </a:prstGeom>
          <a:ln w="0">
            <a:noFill/>
          </a:ln>
        </p:spPr>
      </p:pic>
      <p:pic>
        <p:nvPicPr>
          <p:cNvPr id="683" name="Rectangle 2" descr=""/>
          <p:cNvPicPr/>
          <p:nvPr/>
        </p:nvPicPr>
        <p:blipFill>
          <a:blip r:embed="rId3"/>
          <a:stretch/>
        </p:blipFill>
        <p:spPr>
          <a:xfrm>
            <a:off x="652320" y="3213000"/>
            <a:ext cx="7839360" cy="871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WikiSpac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761760" y="16761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-mail Invitation or Click “Join” butt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Join if you haven’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llaborative Web Pag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Add material to any pa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Edit material already posted to a pa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Delete material posted to a pa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You can Create a new page with new materia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ateria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ext conten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yperlink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1182600" indent="-282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WebPages, Podcasts, Video, Audio, etc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Wiki Pages to Updat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ccounting Syste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ata Model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BR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Deliverable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094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ad SAD Wiki chapter 9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gn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course agre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ue January 18t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rm Group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roup Assignmen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9200" indent="-349200">
              <a:lnSpc>
                <a:spcPct val="90000"/>
              </a:lnSpc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Teams of at least 5, no more then 6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Project requirements: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rief Description of a Proces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etailed Narrative of a Proces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 &amp; A Tabl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ata Flow Diagrams (context, level-0, and level-1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1120" indent="-336600">
              <a:lnSpc>
                <a:spcPct val="90000"/>
              </a:lnSpc>
              <a:spcBef>
                <a:spcPts val="476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low Char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Implemented via Wiki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Process will come from Process Classification Framework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292E-309A-4137-819C-580AF1073576}" type="slidenum">
              <a:rPr b="0" lang="en-US" sz="11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What to Expec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 fontScale="99000"/>
          </a:bodyPr>
          <a:p>
            <a:pPr marL="345600" indent="-345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earning the concepts of AI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74720" indent="-33300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(old Chinese proverb)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45600" indent="-345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pplying the concepts (Group Case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74720" indent="-33300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Aristotle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4648320" y="1981080"/>
            <a:ext cx="3848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adings/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Syllabus Highlight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r. Steven Hornik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mail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shornik@bus.ucf.ed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urse Webpag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http://acg6415.wikispaces.com/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ffice Hours: Tuesday &amp; Thursday 3:00 – 4:0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; and by appoint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ffice: BA1 432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Use Meebo Widget in Wikispac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Text Book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53352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 Accountants Guide to XBRL 5th  ed., by Clinton E Whit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vailable only at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orbel"/>
              </a:rPr>
              <a:t>http:www.skipwhite.com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0099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Systems Analysis and Design Wiki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hapter 2 and 9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Get 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rbel"/>
              </a:rPr>
              <a:t>Gliffy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Account – Web Based Modeling too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rade Component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xam 1 (Data Models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xam 2 (XBRL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usiness Process Model (Group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5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ML Assignment (6?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6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articipation (Wiki)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25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tal Points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535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rading Scal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533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A 4.00 100-93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A- 3.75 92-90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B+ 3.25 89-86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B 3.00 85-83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B- 2.75 82-80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C+ 2.25 79-76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C 2.00 75-73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4648320" y="2743200"/>
            <a:ext cx="38480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D+ 1.25 69-6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D 1.00 65-6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D- 0.75 62-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Participation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ecture’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 In Class, Ask Questions, New Technolog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W / Cas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 In Class, Prepared to discu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iki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Quality of pos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Exam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ultiple choi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atch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hort-answe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oblem solving / model build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rIns="306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General Course Objective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rIns="30600"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You will be expected to prepare models of business processes, specifically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ata Flow Diagrams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low Charts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ain Understanding of XBR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M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XBR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82640" indent="-336600">
              <a:lnSpc>
                <a:spcPct val="8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BL and XBRL-G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arily, to become consumers of information related to new technology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0:15:00Z</dcterms:created>
  <dc:creator>shornik</dc:creator>
  <dc:description/>
  <cp:keywords/>
  <dc:language>en-US</dc:language>
  <cp:lastModifiedBy>Steven Hornik</cp:lastModifiedBy>
  <dcterms:modified xsi:type="dcterms:W3CDTF">2011-01-10T22:15:48Z</dcterms:modified>
  <cp:revision>6</cp:revision>
  <dc:subject/>
  <dc:title>ACG 5405 Intro</dc:title>
</cp:coreProperties>
</file>